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714-74C0-4751-BD7C-2094360C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462-8513-4827-BC93-8CCF6DE1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242-31AA-4F5C-A2F7-A3B742FE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7B3-0DAE-4D13-A1BF-BFE0CDE7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9A94-037E-4F02-86D1-FE5D0627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8B9-956F-41F3-9597-14F4B105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00D-ABF6-4DE0-804A-E432EBEC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AFE-48A3-49F0-883E-9ADC2B7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F346-8081-49E3-AC89-CEA0856C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C45-3D18-40DC-9422-2BF00EB4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B3E-65AF-49EA-A7B9-48218A1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0E3-EA30-4925-9CE3-168C56E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669-A6AA-4716-8B1F-53C1ACD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5E1-9658-478A-A133-98D7BCD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51FF-1F55-40E6-8DA8-093952A2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7C69-5D2E-49C5-AF24-CF92C055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A9DF-A1E1-4C4B-91C0-AF732795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8718-B11F-4BC4-BF6F-1682F6F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9A40-F596-43E0-BD4C-9028F65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E040-2407-42BB-A30E-31D4EFCA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8EAB-8DF4-49D8-9EEC-C688D25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A6E1-4935-4898-9965-B1CD34B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6E4-21B5-44D4-A876-63C54FF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B247-28D1-43C3-BAA9-31CB6B83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558B-698A-49F9-999C-15E1806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43EC-4EF3-4438-9F00-BAA53A0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5B48-20D4-4842-95E5-418DBCD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1B97-7BBA-46DA-B3DB-BA287E1B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25AA-4E4F-4B56-A351-9BC3C20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C508-380D-4073-BB3C-EF7FE064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98C7-0A66-4FA2-902D-FFE3EFFA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4B54-28FA-4FFD-8302-4D9274C4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30BE-0400-42E4-AC15-62F9BE9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936-3A2C-4E36-BFCF-C5510D4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FF25-58F0-4A9D-B9D4-688CFA2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9AF7-D26B-401E-AA68-58BD460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D7DD-1BD6-4C04-93C6-DB7EFD4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64C6-E849-406B-9F3B-E734EB5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E5FD-D7F2-41BC-99F8-E6C5043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AB0F-DA22-4EF0-BF6C-EAD6C36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FBC1-5A15-46BF-B39F-C4C30C89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6B87-5557-4A92-BAEE-8FF24809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846F-FF04-4B86-8EB3-7A178F51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9F53-EB69-407B-AD0A-AD2DF96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1B-E15F-4911-BB7B-49281A3B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B464-17AF-494E-AC5E-EF2B024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7ECD-B3D0-461F-892A-C7D8165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22F7-9E1A-43D7-8C2C-1F9926E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21DF-FDF6-48D0-8187-6B67BD3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E785-F529-4086-8B12-F70980B0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1C26-889D-459A-AA87-3FF13AD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7181-48D3-4B89-BC74-73D63AB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1F3F-4946-440D-9FE8-1BE75FF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21A7-438B-4F17-8B30-CBC86B6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6BDF-36DC-41DC-9E76-B6D1E6BC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B2E-77CD-4313-9F59-3CB4090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FE11-42A8-4810-BA7F-8236CE3D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DA0B-9A47-496B-A8DE-4992E221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AC680-8AB8-4E4C-A3D3-7BFABB2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561E-BD99-4F89-96C9-AC7A1A6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413C-EE5E-4229-9E1F-DD8AC76A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982B-13CE-4951-8D79-62DD01B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5EFC0-6495-4160-A7AB-B20F7DED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C0E07-ED10-4B28-A5F6-DBAF62A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C9A9-6697-4492-AB9E-191BC10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07B8-2713-4E9B-926A-2266E8C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A36-6C7D-47F0-ABB2-6A7D4B7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C833-4277-4B68-82EB-453FC34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2CE6-8F54-421C-ACB7-FFEE6C4B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B51B-E841-490A-9865-ABF02233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D37-587A-4700-9322-F6F2CB2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517-DAD6-4CC0-8E8A-3AD8C83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BB7-54B7-45E8-92BC-812B65D449D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0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8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69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0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1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2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1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106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09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CC4-5F4C-4452-9BBD-B650D580D8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3AAF-AD2E-4332-A40D-7C576A833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739E-57E0-40F6-A5EE-FA468B890C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4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4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4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grpSp>
            <p:nvGrpSpPr>
              <p:cNvPr id="27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7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7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8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grpSp>
            <p:nvGrpSpPr>
              <p:cNvPr id="29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9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29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  <p:sp>
              <p:nvSpPr>
                <p:cNvPr id="30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stellar"/>
                  </a:endParaRPr>
                </a:p>
              </p:txBody>
            </p:sp>
          </p:grpSp>
          <p:sp>
            <p:nvSpPr>
              <p:cNvPr id="30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  <p:sp>
            <p:nvSpPr>
              <p:cNvPr id="30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stellar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907F-E855-4C36-9516-7FDC771B31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DC9-B0A2-4AE7-8FD8-CA7CCD4A17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327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0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13"/>
          <p:cNvSpPr txBox="1"/>
          <p:nvPr/>
        </p:nvSpPr>
        <p:spPr>
          <a:xfrm>
            <a:off x="395280" y="1125360"/>
            <a:ext cx="874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"/>
              </a:rPr>
              <a:t>Налог на добавленную стоимость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65"/>
          <p:cNvSpPr/>
          <p:nvPr/>
        </p:nvSpPr>
        <p:spPr>
          <a:xfrm>
            <a:off x="826920" y="333360"/>
            <a:ext cx="7490160" cy="612144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. Плательщик НДС вправе, не ранее, чем по истечении двух лет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момента постановки его на учет НДС стоимость, подать 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логовый орган по месту регистрации заявление о снятии 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учета по НДС, если за последний двенадцатимесячный период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размер облагаемого оборота не превышал минимум облагаем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борота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2. Если лицо являющееся плательщиком НДС, прекратило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ятельность, связанную с облагаемыми оборотами, такое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Лицо  обязано подать заявление о снятии его с учета по 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е позднее, чем по истечении шести месяцев после налого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ериода, в котором была прекращена такая деятельность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buClr>
                <a:srgbClr val="5454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50920" y="260280"/>
            <a:ext cx="8496360" cy="616608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9900ff"/>
                </a:solidFill>
                <a:uFillTx/>
                <a:latin typeface="Arial"/>
              </a:rPr>
              <a:t>Порядок снятия с учета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3. В случае ликвидации юридического лица, являющегося плательщиком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алога на добавленную стоимость, такое лицо подлежит снятию с учета по </a:t>
            </a:r>
            <a:r>
              <a:rPr b="1" i="1" lang="en-US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НДС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о дня исключения из государственного реестра налогоплательщиков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4. Налогоплательщики, указанные в пункте 1 статьи 207 настоящего Кодекса,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ерестают быть плательщиками налога на добавленную стоимость с перво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дня налогового периода, следующего за периодом, в котором подано заявлени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о снятии с учета по налогу на добавленную стоимость, соответствующее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положениям настоящей статьи.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5. При снятии лица с учета по налогу на добавленную стоимость остатк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его товаров (в том числе основных средств), по которым налог на добавленную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стоимость был  отнесен в зачет в соответствии со статьей 235 настоящего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ahoma"/>
              </a:rPr>
              <a:t>Кодекса, рассматриваются в качестве облагаемого оборот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ff6600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оборо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ется оборот по реализации товаров (работ, услуг), совершаемый плательщиком налога на добавленную стоимость, за исключением оборо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1) освобожденного от налога на добавленную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стоимость в соответствии с Налоговым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кодек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2) местом реализации которого не являет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еспублика Казах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6600"/>
                </a:solidFill>
                <a:uFillTx/>
                <a:latin typeface="Comic Sans MS"/>
              </a:rPr>
              <a:t>Облагаемым импор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являются товары, ввозимые или ввезенные на территорию Республики Казахстан (за исключением освобожденных от налога на добавленную стоимость в соответствии с Налоговым Кодексом РК), подлежащие декларированию в соответствии с таможенным законодательством Республики Казахст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4500720" y="4653000"/>
            <a:ext cx="165564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313160" y="1312920"/>
            <a:ext cx="1656000" cy="217440"/>
          </a:xfrm>
          <a:prstGeom prst="pi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39640" y="333360"/>
          <a:ext cx="8064720" cy="6207120"/>
        </p:xfrm>
        <a:graphic>
          <a:graphicData uri="http://schemas.openxmlformats.org/drawingml/2006/table">
            <a:tbl>
              <a:tblPr/>
              <a:tblGrid>
                <a:gridCol w="689040"/>
                <a:gridCol w="73756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ОБОР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осуществляется реализация товара, как передача прав собственности, то размер облагаемого оборота определяют на основе стоимости реализуемых товаров (работ, услуг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безвозмездной передаче товаров размер облагаемого оборота определяется учетом уровня цен, сложившихся на дату совершения оборота по реализации, не включая НДС, но не ниже их балансовой стоим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залогового имущества (товара) размер облагаемого оборота у залогодателя определяется исходя из стоимости реализуемого залогового имущества (товара), но не ниже суммы заемных средств, полученных под залог данного имущества (товара), не включая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а на условиях рассрочки платежа размер облагаемого оборота определяется с учетом всех причитающихся платежей, предусмотренных условиями догово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редоставлении услуг, связанных с оплатой за третьих лиц, в размер облагаемого оборота включается комиссионное вознагражд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оборота включаются суммы акциза по подакцизным товарам и видам деятельност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реализации товаров, по которым не предусмотрен зачет по НДС, размер облагаемого оборота определяется как положительная разница между стоимостью реализации и балансовой стоимостью това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в финансовый лизинг, за исключением передачи по договору возвратного лизинга, размер облагаемого оборота определяетс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снове размера лизингового платежа, установленного в соответствии с договором финансового лизинга, без включения в него суммы вознаграждения и налога на добавленную стоимос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на основе суммы всех периодических лизинговых платежей без включения в них суммы вознаграждения иНДС, дата наступления срока получения которых в соответствии с договором финансового лизинга установлена до даты передачи имущества лизингополучател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ату совершения оборота, как разница между общей суммой всех лизинговых платежей, подлежащих получению по договору финансового лизинга без включения в них суммы вознаграждения иНДС, и размером облагаемого оборота, определяемого как сумма размеров облагаемых оборотов, приходящихся на предыдущие даты совершения оборота по реализации по данному догово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ередаче имущества по договору возвратного лизинга, подлежащего получению лизингополучателем (продавцом) в качестве основного средства, размер оборота по реализации определяется в соответствии с применяемыми сторонами сделки ценами и тарифами, без включения в них НД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оказании услуг по договору транспортной экспедиции размер облагаемого оборота у экспедитора определяется на основе его вознагражд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457200" y="260280"/>
          <a:ext cx="8229600" cy="256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ПРЕДЕЛЕНИЕ РАЗМЕРА ОБЛАГАЕМОГО ИМ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змер облагаемого импорта включается таможенная стоимость импортируемых товаров, определяемая в соответствии с таможенным законодательством Республики Казахстан, а также суммы налогов и других обязательных платежей, подлежащих уплате в бюджет при импорте товаров в Республику Казахстан, за исключением налога на добавленную стоимость на им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Rectangle 13"/>
          <p:cNvSpPr/>
          <p:nvPr/>
        </p:nvSpPr>
        <p:spPr>
          <a:xfrm>
            <a:off x="826920" y="3141720"/>
            <a:ext cx="78710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я получила оборудование, включенное в перечень таможенной декларации. Таможенная стоимость оборудования составляет 1250000 тенге, а таможенные платежи – 105000 тенге. Определите размер облагаемого оборота?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50000 + 105000=1355000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35"/>
          <p:cNvSpPr/>
          <p:nvPr/>
        </p:nvSpPr>
        <p:spPr>
          <a:xfrm>
            <a:off x="165240" y="3759120"/>
            <a:ext cx="2842920" cy="2710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и импорте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(работ, услуг)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тавка 12%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5" name="Oval 37"/>
          <p:cNvSpPr/>
          <p:nvPr/>
        </p:nvSpPr>
        <p:spPr>
          <a:xfrm>
            <a:off x="5667480" y="3846600"/>
            <a:ext cx="2954160" cy="2708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ри реализац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Товаров  на экспорт,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а также оказании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услуг по международным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перевозкам 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реализации товаров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а территории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СЭЗ установлена 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Arial"/>
              </a:rPr>
              <a:t>нулевая ставка.</a:t>
            </a: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86800" cy="324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3399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br>
              <a:rPr sz="1900"/>
            </a:br>
            <a:br>
              <a:rPr sz="1900"/>
            </a:br>
            <a:r>
              <a:rPr b="0" i="1" lang="ru-RU" sz="19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0" lang="ru-RU" sz="1900" spc="-1" strike="noStrike">
                <a:solidFill>
                  <a:srgbClr val="3399ff"/>
                </a:solidFill>
                <a:latin typeface="Arial"/>
              </a:rPr>
              <a:t>Налог на добавленную стоимость, подлежащий уплате в бюджет по облагаемому обороту, определяется как разница между суммами налога на добавленную стоимость, начисленными за реализованные товары (работы, услуги) - и суммами налога на добавленную стоимость, подлежащими уплате за полученные товары (работы, услуги)</a:t>
            </a:r>
            <a:br>
              <a:rPr sz="1900"/>
            </a:br>
            <a:endParaRPr b="0" lang="en-US" sz="1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1764000" y="321300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66"/>
                </a:solidFill>
                <a:latin typeface="Arial"/>
                <a:ea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бюджет  =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 НДС полная  - </a:t>
            </a:r>
            <a:r>
              <a:rPr b="1" i="1" lang="el-GR" sz="1800" spc="-1" strike="noStrike">
                <a:solidFill>
                  <a:srgbClr val="ffcc66"/>
                </a:solidFill>
                <a:latin typeface="Arial"/>
              </a:rPr>
              <a:t>Σ</a:t>
            </a:r>
            <a:r>
              <a:rPr b="1" i="1" lang="ru-RU" sz="1800" spc="-1" strike="noStrike">
                <a:solidFill>
                  <a:srgbClr val="ffcc66"/>
                </a:solidFill>
                <a:latin typeface="Arial"/>
              </a:rPr>
              <a:t>НДС в зач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78" name="AutoShape 46"/>
          <p:cNvSpPr/>
          <p:nvPr/>
        </p:nvSpPr>
        <p:spPr>
          <a:xfrm>
            <a:off x="2987640" y="4292640"/>
            <a:ext cx="2664000" cy="1800360"/>
          </a:xfrm>
          <a:prstGeom prst="leftRightArrow">
            <a:avLst>
              <a:gd name="adj1" fmla="val 50000"/>
              <a:gd name="adj2" fmla="val 29457"/>
            </a:avLst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Ставки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Organization Chart 9"/>
          <p:cNvGrpSpPr/>
          <p:nvPr/>
        </p:nvGrpSpPr>
        <p:grpSpPr>
          <a:xfrm>
            <a:off x="1979640" y="765000"/>
            <a:ext cx="5399640" cy="4462920"/>
            <a:chOff x="1979640" y="765000"/>
            <a:chExt cx="5399640" cy="4462920"/>
          </a:xfrm>
        </p:grpSpPr>
        <p:cxnSp>
          <p:nvCxnSpPr>
            <p:cNvPr id="480" name="_s4100"/>
            <p:cNvCxnSpPr>
              <a:stCxn id="481" idx="0"/>
              <a:endCxn id="482" idx="0"/>
            </p:cNvCxnSpPr>
            <p:nvPr/>
          </p:nvCxnSpPr>
          <p:spPr>
            <a:xfrm flipV="1">
              <a:off x="4678920" y="2549520"/>
              <a:ext cx="7560" cy="89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82" name="_s4101"/>
            <p:cNvSpPr/>
            <p:nvPr/>
          </p:nvSpPr>
          <p:spPr>
            <a:xfrm>
              <a:off x="1979640" y="76500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00a4"/>
                </a:gs>
                <a:gs pos="100000">
                  <a:srgbClr val="0099cc"/>
                </a:gs>
              </a:gsLst>
              <a:lin ang="8100000"/>
            </a:gra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Налоговый 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99cc"/>
                  </a:solidFill>
                  <a:latin typeface="Arial"/>
                </a:rPr>
                <a:t>период по НДС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81" name="_s4102"/>
            <p:cNvSpPr/>
            <p:nvPr/>
          </p:nvSpPr>
          <p:spPr>
            <a:xfrm>
              <a:off x="1979640" y="3442680"/>
              <a:ext cx="5399640" cy="1785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cc99"/>
                  </a:solidFill>
                  <a:latin typeface="Arial"/>
                </a:rPr>
                <a:t>Квартал</a:t>
              </a:r>
              <a:endParaRPr b="0" lang="en-US" sz="4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5660640"/>
            <a:ext cx="86043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Уплата НДС производится за каждый налоговый период после предоставления декларации не позднее 15 числа каждого месяца или квартала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3640" y="602640"/>
            <a:ext cx="2484000" cy="370296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Деклара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о НД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редоста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кажд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налог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 не позд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15 числа меся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следующ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за налогов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00"/>
                </a:solidFill>
                <a:latin typeface="Arial"/>
              </a:rPr>
              <a:t>периодо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076720" y="1413000"/>
            <a:ext cx="3168720" cy="417672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Обязатель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документом дл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сех плательщиков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является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чет – фактур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и определении суммы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налога подлежаще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зносу в бюдж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олучатель товар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(работ, услуг) име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раво на за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умм НДС п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выставленным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чет - фактура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2b2b2"/>
                </a:solidFill>
                <a:latin typeface="Arial"/>
              </a:rPr>
              <a:t>Контрольные вопросы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представляет собой налог на добавленную стоимо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являются плательщиками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является объектом обложения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тавки НДС  существующие в Казахст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ком случае производится снятие с учета по НД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роки предоставления декларации по Н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НДС - эт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разновидность кос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а на товары и услуг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регион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мест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социальный налог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подоходный нало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Кто является плательщиком НД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международные организа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иностранные граждан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организации и предприятия, имеющие статус юридического лица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физические лиц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лица без граждан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Объектом налогообложения НДС я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оборот  товаров (работ, услуг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транспор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домашнее хозяйств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оборуд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стро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Декларация по НДС предоставл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1 раз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через каждые 2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не позднее 15 числа меся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ующего за налоговым периодом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2 раза в го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через каждые 3 недел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Налогоплательщик НДС при реализации товаров должен выставить покупателю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довере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счет-факту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) рас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иходный кассовый орде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) накладну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Общая характеристика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постановки на учет и снятия с учета по налогу на добавленную стоим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нятие и методика расчета облагаемого оборота и облагаемого им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Порядок исчисления и сроки уплаты  налога на добавленную сто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Контроль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Список использованной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Список использованной литературы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Налоговый кодекс РК 200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Нурхалиева Д.М., Омирбаев С.М., Омарова Ш.А. - Налоги и налогообложение в РК, Астана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//www tax.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164"/>
          <p:cNvSpPr/>
          <p:nvPr/>
        </p:nvSpPr>
        <p:spPr>
          <a:xfrm>
            <a:off x="179280" y="476280"/>
            <a:ext cx="8964720" cy="158436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46800 h 1584360"/>
              <a:gd name="textAreaBottom" fmla="*/ 1188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80008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лог на добавленную стоимость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7" name="Line 170"/>
          <p:cNvSpPr/>
          <p:nvPr/>
        </p:nvSpPr>
        <p:spPr>
          <a:xfrm flipH="1">
            <a:off x="4354560" y="1700280"/>
            <a:ext cx="1440" cy="52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8" name="Line 171"/>
          <p:cNvSpPr/>
          <p:nvPr/>
        </p:nvSpPr>
        <p:spPr>
          <a:xfrm flipH="1">
            <a:off x="1187280" y="2205000"/>
            <a:ext cx="3152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399" name="Line 174"/>
          <p:cNvSpPr/>
          <p:nvPr/>
        </p:nvSpPr>
        <p:spPr>
          <a:xfrm>
            <a:off x="4356000" y="220500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0" name="Line 175"/>
          <p:cNvSpPr/>
          <p:nvPr/>
        </p:nvSpPr>
        <p:spPr>
          <a:xfrm>
            <a:off x="1187280" y="2205000"/>
            <a:ext cx="0" cy="86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1" name="Line 176"/>
          <p:cNvSpPr/>
          <p:nvPr/>
        </p:nvSpPr>
        <p:spPr>
          <a:xfrm>
            <a:off x="7596360" y="2205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2" name="Line 178"/>
          <p:cNvSpPr/>
          <p:nvPr/>
        </p:nvSpPr>
        <p:spPr>
          <a:xfrm>
            <a:off x="478800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3" name="AutoShape 179"/>
          <p:cNvSpPr/>
          <p:nvPr/>
        </p:nvSpPr>
        <p:spPr>
          <a:xfrm>
            <a:off x="468360" y="3112920"/>
            <a:ext cx="2914560" cy="374508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ставляет соб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числения в бюдж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асти стоимост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лагаемого оборот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 реализации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обавленной в процесс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изводства и обращ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варов(работ, услуг)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 также отчисления пр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мпорте  на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рриторию РК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4" name="AutoShape 180"/>
          <p:cNvSpPr/>
          <p:nvPr/>
        </p:nvSpPr>
        <p:spPr>
          <a:xfrm>
            <a:off x="6291360" y="3135240"/>
            <a:ext cx="2700360" cy="3456000"/>
          </a:xfrm>
          <a:prstGeom prst="flowChartDocumen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ямо связывает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логовое поступлени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ростом цен 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вляется эффективны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ычагом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едотвращ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нфляционн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юджетных средст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05" name="AutoShape 182"/>
          <p:cNvSpPr/>
          <p:nvPr/>
        </p:nvSpPr>
        <p:spPr>
          <a:xfrm>
            <a:off x="3780000" y="3213000"/>
            <a:ext cx="2158920" cy="3645000"/>
          </a:xfrm>
          <a:prstGeom prst="flowChartOffpage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первые бы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веден во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ции в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54 году П. Лор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Казахстан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ункционирует 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2 года.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лательщиками НДС являются лица, вставшие на учет по НДС, и импортирующие НДС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07" name="Organization Chart 7"/>
          <p:cNvGrpSpPr/>
          <p:nvPr/>
        </p:nvGrpSpPr>
        <p:grpSpPr>
          <a:xfrm>
            <a:off x="395280" y="907920"/>
            <a:ext cx="8569080" cy="5838840"/>
            <a:chOff x="395280" y="907920"/>
            <a:chExt cx="8569080" cy="5838840"/>
          </a:xfrm>
        </p:grpSpPr>
        <p:cxnSp>
          <p:nvCxnSpPr>
            <p:cNvPr id="408" name="_s1028"/>
            <p:cNvCxnSpPr>
              <a:stCxn id="409" idx="0"/>
              <a:endCxn id="410" idx="2"/>
            </p:cNvCxnSpPr>
            <p:nvPr/>
          </p:nvCxnSpPr>
          <p:spPr>
            <a:xfrm flipV="1" rot="16200000">
              <a:off x="571752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1" name="_s1029"/>
            <p:cNvCxnSpPr>
              <a:stCxn id="412" idx="0"/>
              <a:endCxn id="410" idx="2"/>
            </p:cNvCxnSpPr>
            <p:nvPr/>
          </p:nvCxnSpPr>
          <p:spPr>
            <a:xfrm flipV="1" rot="16200000">
              <a:off x="4621680" y="3278880"/>
              <a:ext cx="1213560" cy="109584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3" name="_s1030"/>
            <p:cNvCxnSpPr>
              <a:stCxn id="414" idx="0"/>
              <a:endCxn id="410" idx="2"/>
            </p:cNvCxnSpPr>
            <p:nvPr/>
          </p:nvCxnSpPr>
          <p:spPr>
            <a:xfrm flipH="1" flipV="1" rot="5400000">
              <a:off x="3525840" y="3278160"/>
              <a:ext cx="1213560" cy="109800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15" name="_s1031"/>
            <p:cNvCxnSpPr>
              <a:stCxn id="416" idx="0"/>
              <a:endCxn id="410" idx="2"/>
            </p:cNvCxnSpPr>
            <p:nvPr/>
          </p:nvCxnSpPr>
          <p:spPr>
            <a:xfrm flipH="1" flipV="1" rot="5400000">
              <a:off x="2430360" y="2183040"/>
              <a:ext cx="1213560" cy="3287880"/>
            </a:xfrm>
            <a:prstGeom prst="bentConnector3">
              <a:avLst>
                <a:gd name="adj1" fmla="val 10029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10" name="_s1032"/>
            <p:cNvSpPr/>
            <p:nvPr/>
          </p:nvSpPr>
          <p:spPr>
            <a:xfrm>
              <a:off x="3683160" y="907920"/>
              <a:ext cx="1991880" cy="2313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ПЛАТЕЛЬЩИК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6" name="_s1033"/>
            <p:cNvSpPr/>
            <p:nvPr/>
          </p:nvSpPr>
          <p:spPr>
            <a:xfrm>
              <a:off x="395280" y="4433760"/>
              <a:ext cx="1991880" cy="2313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ндивидуаль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редприниматели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4" name="_s1034"/>
            <p:cNvSpPr/>
            <p:nvPr/>
          </p:nvSpPr>
          <p:spPr>
            <a:xfrm>
              <a:off x="2587680" y="4433760"/>
              <a:ext cx="1991880" cy="2313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з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исключением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государственных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й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2" name="_s1035"/>
            <p:cNvSpPr/>
            <p:nvPr/>
          </p:nvSpPr>
          <p:spPr>
            <a:xfrm>
              <a:off x="4780440" y="4433760"/>
              <a:ext cx="1991880" cy="2313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труктурны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дразделения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юридического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лица, признанные 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самостоятельны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лательщиками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09" name="_s1036"/>
            <p:cNvSpPr/>
            <p:nvPr/>
          </p:nvSpPr>
          <p:spPr>
            <a:xfrm>
              <a:off x="6972480" y="4433760"/>
              <a:ext cx="1991880" cy="2313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e941c"/>
              </a:solidFill>
              <a:miter/>
            </a:ln>
            <a:effectLst>
              <a:outerShdw dist="63504" dir="19383909" blurRad="0" rotWithShape="0">
                <a:srgbClr val="ee94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Нерезиденты,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осуществляющи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деятельность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в РК через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постоянное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учрежде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Organization Chart 63"/>
          <p:cNvGrpSpPr/>
          <p:nvPr/>
        </p:nvGrpSpPr>
        <p:grpSpPr>
          <a:xfrm>
            <a:off x="539640" y="260280"/>
            <a:ext cx="8208000" cy="5544000"/>
            <a:chOff x="539640" y="260280"/>
            <a:chExt cx="8208000" cy="5544000"/>
          </a:xfrm>
        </p:grpSpPr>
        <p:cxnSp>
          <p:nvCxnSpPr>
            <p:cNvPr id="418" name="_s2052"/>
            <p:cNvCxnSpPr>
              <a:stCxn id="419" idx="0"/>
              <a:endCxn id="420" idx="3"/>
            </p:cNvCxnSpPr>
            <p:nvPr/>
          </p:nvCxnSpPr>
          <p:spPr>
            <a:xfrm flipV="1" rot="16200000">
              <a:off x="650664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1" name="_s2053"/>
            <p:cNvCxnSpPr>
              <a:stCxn id="422" idx="0"/>
              <a:endCxn id="423" idx="3"/>
            </p:cNvCxnSpPr>
            <p:nvPr/>
          </p:nvCxnSpPr>
          <p:spPr>
            <a:xfrm flipV="1" rot="16200000">
              <a:off x="2086920" y="4010040"/>
              <a:ext cx="693720" cy="122400"/>
            </a:xfrm>
            <a:prstGeom prst="bentConnector3">
              <a:avLst>
                <a:gd name="adj1" fmla="val 20508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4" name="_s2054"/>
            <p:cNvCxnSpPr>
              <a:stCxn id="420" idx="0"/>
              <a:endCxn id="425" idx="3"/>
            </p:cNvCxnSpPr>
            <p:nvPr/>
          </p:nvCxnSpPr>
          <p:spPr>
            <a:xfrm flipV="1" rot="16200000">
              <a:off x="5401440" y="825840"/>
              <a:ext cx="693720" cy="233316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cxnSp>
          <p:nvCxnSpPr>
            <p:cNvPr id="426" name="_s2055"/>
            <p:cNvCxnSpPr>
              <a:stCxn id="423" idx="0"/>
              <a:endCxn id="425" idx="3"/>
            </p:cNvCxnSpPr>
            <p:nvPr/>
          </p:nvCxnSpPr>
          <p:spPr>
            <a:xfrm flipH="1" flipV="1" rot="5400000">
              <a:off x="3191760" y="948960"/>
              <a:ext cx="693720" cy="2087280"/>
            </a:xfrm>
            <a:prstGeom prst="bentConnector3">
              <a:avLst>
                <a:gd name="adj1" fmla="val 20404"/>
              </a:avLst>
            </a:prstGeom>
            <a:ln w="28440">
              <a:solidFill>
                <a:srgbClr val="4d4d4d"/>
              </a:solidFill>
              <a:miter/>
            </a:ln>
          </p:spPr>
        </p:cxnSp>
        <p:sp>
          <p:nvSpPr>
            <p:cNvPr id="425" name="_s2056"/>
            <p:cNvSpPr/>
            <p:nvPr/>
          </p:nvSpPr>
          <p:spPr>
            <a:xfrm>
              <a:off x="2750040" y="260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cc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ъекты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808000"/>
                  </a:solidFill>
                  <a:latin typeface="Arial"/>
                </a:rPr>
                <a:t>обложения</a:t>
              </a:r>
              <a:endParaRPr b="0" lang="en-US" sz="30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3" name="_s2057"/>
            <p:cNvSpPr/>
            <p:nvPr/>
          </p:nvSpPr>
          <p:spPr>
            <a:xfrm>
              <a:off x="53964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оро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0" name="_s2058"/>
            <p:cNvSpPr/>
            <p:nvPr/>
          </p:nvSpPr>
          <p:spPr>
            <a:xfrm>
              <a:off x="4959360" y="2339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Облагаемый 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e941c"/>
                  </a:solidFill>
                  <a:latin typeface="Arial"/>
                </a:rPr>
                <a:t>импорт</a:t>
              </a:r>
              <a:endParaRPr b="0" lang="en-US" sz="24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22" name="_s2059"/>
            <p:cNvSpPr/>
            <p:nvPr/>
          </p:nvSpPr>
          <p:spPr>
            <a:xfrm>
              <a:off x="53964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борот по реализации товаров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работ, услуг) совершаемый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лательщиком НДС.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19" name="_s2060"/>
            <p:cNvSpPr/>
            <p:nvPr/>
          </p:nvSpPr>
          <p:spPr>
            <a:xfrm>
              <a:off x="4959360" y="4418280"/>
              <a:ext cx="3788280" cy="1386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a4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овары, ввозимые или ввезенны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территорию РК, подлежащие 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кларированию в соответствии с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таможенным законодательством РК</a:t>
              </a:r>
              <a:endParaRPr b="0" lang="en-US" sz="16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  <p:transition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Порядок постановки на учет и снятия с учета по налогу на добавленную стоимость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AutoShape 79"/>
          <p:cNvSpPr/>
          <p:nvPr/>
        </p:nvSpPr>
        <p:spPr>
          <a:xfrm>
            <a:off x="755640" y="1052640"/>
            <a:ext cx="8064360" cy="1224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Постановка на учет по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29" name="Oval 91"/>
          <p:cNvSpPr/>
          <p:nvPr/>
        </p:nvSpPr>
        <p:spPr>
          <a:xfrm>
            <a:off x="7270920" y="2997360"/>
            <a:ext cx="1873080" cy="158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0" name="Oval 92"/>
          <p:cNvSpPr/>
          <p:nvPr/>
        </p:nvSpPr>
        <p:spPr>
          <a:xfrm>
            <a:off x="468360" y="2852640"/>
            <a:ext cx="1835280" cy="1441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5b2ff"/>
                </a:solidFill>
                <a:latin typeface="Arial"/>
              </a:rPr>
              <a:t>Обязательна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1" name="Oval 96"/>
          <p:cNvSpPr/>
          <p:nvPr/>
        </p:nvSpPr>
        <p:spPr>
          <a:xfrm>
            <a:off x="2700360" y="2565360"/>
            <a:ext cx="4319640" cy="403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ует от организаций подач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 в налоговый орган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зднее 15 календарных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й со дня окончания любог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а, но не более 12-месячного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итогам которого размер оборот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реализации продукции(работ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луг) превысил минимальный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е 15000МРП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2" name="AutoShape 99"/>
          <p:cNvSpPr/>
          <p:nvPr/>
        </p:nvSpPr>
        <p:spPr>
          <a:xfrm>
            <a:off x="1187280" y="4292640"/>
            <a:ext cx="360360" cy="2565360"/>
          </a:xfrm>
          <a:prstGeom prst="downArrow">
            <a:avLst>
              <a:gd name="adj1" fmla="val 50000"/>
              <a:gd name="adj2" fmla="val 177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3" name="AutoShape 100"/>
          <p:cNvSpPr/>
          <p:nvPr/>
        </p:nvSpPr>
        <p:spPr>
          <a:xfrm>
            <a:off x="1476360" y="4869000"/>
            <a:ext cx="1295280" cy="28872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4" name="AutoShape 101"/>
          <p:cNvSpPr/>
          <p:nvPr/>
        </p:nvSpPr>
        <p:spPr>
          <a:xfrm>
            <a:off x="1187280" y="170028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5" name="AutoShape 102"/>
          <p:cNvSpPr/>
          <p:nvPr/>
        </p:nvSpPr>
        <p:spPr>
          <a:xfrm>
            <a:off x="8028000" y="170028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AutoShape 32"/>
          <p:cNvSpPr/>
          <p:nvPr/>
        </p:nvSpPr>
        <p:spPr>
          <a:xfrm>
            <a:off x="1547640" y="333360"/>
            <a:ext cx="3311640" cy="3097080"/>
          </a:xfrm>
          <a:prstGeom prst="flowChartConnector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и становятс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й день месяца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его за месяцем,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они подал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95400" y="3749760"/>
            <a:ext cx="3311280" cy="3070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П. становитс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ельщиком  НДС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дня государственной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, если  подал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е о постановк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учет по НДС не позднее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рабочих дней посл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ой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5651640" y="0"/>
            <a:ext cx="3492360" cy="3502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р.лица и нерезиденты,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шие заявления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остановке на учет по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ДС не позднее 10 рабочих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ей после их 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становя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ательщиками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 дня их гос.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плательщиков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0" name="Oval 44"/>
          <p:cNvSpPr/>
          <p:nvPr/>
        </p:nvSpPr>
        <p:spPr>
          <a:xfrm>
            <a:off x="4500720" y="3716280"/>
            <a:ext cx="3311280" cy="3141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уктурные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разделения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. лица-плательщика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ятся плательщикам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ДС в первый месяц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за месяцем,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поданы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явления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остановке на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т 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1" name="AutoShape 48"/>
          <p:cNvSpPr/>
          <p:nvPr/>
        </p:nvSpPr>
        <p:spPr>
          <a:xfrm rot="10800000">
            <a:off x="3419280" y="5013360"/>
            <a:ext cx="1152360" cy="503280"/>
          </a:xfrm>
          <a:prstGeom prst="leftArrow">
            <a:avLst>
              <a:gd name="adj1" fmla="val 50000"/>
              <a:gd name="adj2" fmla="val 57242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2" name="AutoShape 49"/>
          <p:cNvSpPr/>
          <p:nvPr/>
        </p:nvSpPr>
        <p:spPr>
          <a:xfrm rot="1878000">
            <a:off x="6643440" y="3331800"/>
            <a:ext cx="447480" cy="647640"/>
          </a:xfrm>
          <a:prstGeom prst="upArrow">
            <a:avLst>
              <a:gd name="adj1" fmla="val 50000"/>
              <a:gd name="adj2" fmla="val 36183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3" name="AutoShape 50"/>
          <p:cNvSpPr/>
          <p:nvPr/>
        </p:nvSpPr>
        <p:spPr>
          <a:xfrm rot="16200000">
            <a:off x="5042520" y="948240"/>
            <a:ext cx="498600" cy="1150920"/>
          </a:xfrm>
          <a:prstGeom prst="upArrow">
            <a:avLst>
              <a:gd name="adj1" fmla="val 50000"/>
              <a:gd name="adj2" fmla="val 57708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4" name="AutoShape 52"/>
          <p:cNvSpPr/>
          <p:nvPr/>
        </p:nvSpPr>
        <p:spPr>
          <a:xfrm rot="1618800">
            <a:off x="2017440" y="3074760"/>
            <a:ext cx="444240" cy="855360"/>
          </a:xfrm>
          <a:prstGeom prst="downArrow">
            <a:avLst>
              <a:gd name="adj1" fmla="val 50000"/>
              <a:gd name="adj2" fmla="val 48136"/>
            </a:avLst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45" name="AutoShape 53"/>
          <p:cNvSpPr/>
          <p:nvPr/>
        </p:nvSpPr>
        <p:spPr>
          <a:xfrm rot="5400000">
            <a:off x="617760" y="-222840"/>
            <a:ext cx="11383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ри постановке на учет по НДС налоговый орган выдает организации свидетельство о его постановке на учет, в котором указываютс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7"/>
          <p:cNvGrpSpPr/>
          <p:nvPr/>
        </p:nvGrpSpPr>
        <p:grpSpPr>
          <a:xfrm>
            <a:off x="2399760" y="1924200"/>
            <a:ext cx="4728600" cy="4095360"/>
            <a:chOff x="2399760" y="1924200"/>
            <a:chExt cx="4728600" cy="4095360"/>
          </a:xfrm>
        </p:grpSpPr>
        <p:sp>
          <p:nvSpPr>
            <p:cNvPr id="448" name="_s3076"/>
            <p:cNvSpPr/>
            <p:nvPr/>
          </p:nvSpPr>
          <p:spPr>
            <a:xfrm>
              <a:off x="3321000" y="192420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49" name="_s3077"/>
            <p:cNvSpPr/>
            <p:nvPr/>
          </p:nvSpPr>
          <p:spPr>
            <a:xfrm rot="7200000">
              <a:off x="3715200" y="260568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0" name="_s3078"/>
            <p:cNvSpPr/>
            <p:nvPr/>
          </p:nvSpPr>
          <p:spPr>
            <a:xfrm rot="14400000">
              <a:off x="2928240" y="260568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1" name="_s3079"/>
            <p:cNvSpPr/>
            <p:nvPr/>
          </p:nvSpPr>
          <p:spPr>
            <a:xfrm>
              <a:off x="5554800" y="245124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РНН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             </a:t>
              </a: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2" name="_s3080"/>
            <p:cNvSpPr/>
            <p:nvPr/>
          </p:nvSpPr>
          <p:spPr>
            <a:xfrm>
              <a:off x="4187880" y="482436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Дата, с которой налогоплательщик 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5b2ff"/>
                  </a:solidFill>
                  <a:latin typeface="Arial"/>
                </a:rPr>
                <a:t>становится плательщиком НДС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  <p:sp>
          <p:nvSpPr>
            <p:cNvPr id="453" name="_s3081"/>
            <p:cNvSpPr/>
            <p:nvPr/>
          </p:nvSpPr>
          <p:spPr>
            <a:xfrm>
              <a:off x="2814480" y="24526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именование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налогоплательщика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5b2ff"/>
                  </a:solidFill>
                  <a:latin typeface="Arial"/>
                </a:rPr>
                <a:t>и его реквизиты</a:t>
              </a:r>
              <a:endParaRPr b="0" lang="en-US" sz="1800" spc="-1" strike="noStrike">
                <a:solidFill>
                  <a:srgbClr val="ffffff"/>
                </a:solidFill>
                <a:latin typeface="Castellar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3"/>
          <p:cNvSpPr/>
          <p:nvPr/>
        </p:nvSpPr>
        <p:spPr>
          <a:xfrm>
            <a:off x="0" y="4365720"/>
            <a:ext cx="2987640" cy="2060640"/>
          </a:xfrm>
          <a:prstGeom prst="flowChartDecision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Место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становки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на учет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99"/>
                </a:solidFill>
                <a:uFillTx/>
                <a:latin typeface="Arial"/>
              </a:rPr>
              <a:t>по НДС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3708360" y="4653000"/>
            <a:ext cx="5435640" cy="187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ри осуществлении юридическим лицом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еятельности по строительству объектов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 территории СЭЗ постановка на учет по НДС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такого юридического  лица либо его структурного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я осуществляется в налоговом орган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 территории СЭЗ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6" name="AutoShape 26"/>
          <p:cNvSpPr/>
          <p:nvPr/>
        </p:nvSpPr>
        <p:spPr>
          <a:xfrm>
            <a:off x="324000" y="333360"/>
            <a:ext cx="4356000" cy="1943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а на учет по налогу на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добавленную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оимость осуществляется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месту государственно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регистрации в качестве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алогоплательщика, если и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не предусмотрено настоящ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татьей.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7" name="AutoShape 27"/>
          <p:cNvSpPr/>
          <p:nvPr/>
        </p:nvSpPr>
        <p:spPr>
          <a:xfrm>
            <a:off x="2484360" y="2565360"/>
            <a:ext cx="5400720" cy="1728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Если юридическое лицо не заявило о своей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становке на учет по НДС, то его структурно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дразделение, осуществляющее деятельность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по строительству объектов на территории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ЭЗ, рассматривается в качестве 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самостоятельного плательщика НДС</a:t>
            </a:r>
            <a:endParaRPr b="0" lang="en-US" sz="1600" spc="-1" strike="noStrike">
              <a:solidFill>
                <a:srgbClr val="ffffff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без заявления указанного юридического лица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8" name="Line 32"/>
          <p:cNvSpPr/>
          <p:nvPr/>
        </p:nvSpPr>
        <p:spPr>
          <a:xfrm flipV="1">
            <a:off x="1476360" y="2276280"/>
            <a:ext cx="0" cy="20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2987640" y="537372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0" name="Line 34"/>
          <p:cNvSpPr/>
          <p:nvPr/>
        </p:nvSpPr>
        <p:spPr>
          <a:xfrm>
            <a:off x="1476360" y="3429000"/>
            <a:ext cx="1079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1" name="Line 54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2" name="Line 55"/>
          <p:cNvSpPr/>
          <p:nvPr/>
        </p:nvSpPr>
        <p:spPr>
          <a:xfrm>
            <a:off x="8675640" y="148428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3" name="Line 56"/>
          <p:cNvSpPr/>
          <p:nvPr/>
        </p:nvSpPr>
        <p:spPr>
          <a:xfrm flipH="1">
            <a:off x="7884720" y="3645000"/>
            <a:ext cx="863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4" name="Line 57"/>
          <p:cNvSpPr/>
          <p:nvPr/>
        </p:nvSpPr>
        <p:spPr>
          <a:xfrm>
            <a:off x="8675640" y="342900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  <p:sp>
        <p:nvSpPr>
          <p:cNvPr id="465" name="Line 58"/>
          <p:cNvSpPr/>
          <p:nvPr/>
        </p:nvSpPr>
        <p:spPr>
          <a:xfrm>
            <a:off x="4629240" y="1469880"/>
            <a:ext cx="4032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stellar"/>
            </a:endParaRPr>
          </a:p>
        </p:txBody>
      </p:sp>
    </p:spTree>
  </p:cSld>
  <p:transition advTm="5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44:00Z</dcterms:created>
  <dc:creator>Admin</dc:creator>
  <dc:description/>
  <dc:language>en-US</dc:language>
  <cp:lastModifiedBy>Windows XP Professional SP3</cp:lastModifiedBy>
  <dcterms:modified xsi:type="dcterms:W3CDTF">2011-06-07T18:43:04Z</dcterms:modified>
  <cp:revision>16</cp:revision>
  <dc:subject/>
  <dc:title>Налог на добавленную стоимость </dc:title>
</cp:coreProperties>
</file>